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C10C-9EA4-4937-84E6-D90A64599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5FDF-B06D-44E8-9F49-60E001E8A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29A6-77BB-4867-8E1F-01F2C629C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6F3F-9CA5-44C6-B1CA-27A3A25AB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798F-76BD-4894-B3C9-EB2017CFB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48CE-9C22-4185-AC48-16F46C39D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4688-81A2-4A5A-B4E9-67FD7C4D2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FCF2-A00D-44E8-928F-1C311F4E7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92DC-43A2-4765-A636-35C643950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7705-41BE-4A95-8B16-D8B5FACE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5530-9A7F-4EC1-9668-68676E9FD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42B3-C13F-45CD-898D-7BBC4928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CB10C-B535-4514-BDBB-0BAEECE620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3124080"/>
            <a:ext cx="320040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cc"/>
                </a:solidFill>
                <a:latin typeface="Arabic Transparent"/>
              </a:rPr>
              <a:t>يا سيدي كم كان قاسيا موتُ صليبِ العار وقبلَ أن يحمِلَك حمَلته يا با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86200" y="0"/>
            <a:ext cx="52578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380880"/>
            <a:ext cx="3581280" cy="61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99"/>
                </a:solidFill>
                <a:latin typeface="Times New Roman"/>
                <a:cs typeface="Arabic Transparent"/>
              </a:rPr>
              <a:t>فوق الصليب يا حبيبي كم لقيتَ آلا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99"/>
                </a:solidFill>
                <a:latin typeface="Times New Roman"/>
                <a:cs typeface="Times New Roman"/>
              </a:rPr>
              <a:t>ممَّن تمادَوا في إيذائك وقد غفرتَ آثام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3124080"/>
            <a:ext cx="320040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cc"/>
                </a:solidFill>
                <a:latin typeface="Arabic Transparent"/>
              </a:rPr>
              <a:t>يا سيدي كم كان قاسيا موتُ صليبِ العار وقبلَ أن يحمِلَك حمَلته يا با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809880" y="0"/>
            <a:ext cx="53341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04920" y="380880"/>
            <a:ext cx="2971800" cy="85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cc99"/>
                </a:solidFill>
                <a:latin typeface="Times New Roman"/>
                <a:cs typeface="Arabic Transparent"/>
              </a:rPr>
              <a:t>هل كل هذا يا إلهي كي تُعيدَن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cc99"/>
                </a:solidFill>
                <a:latin typeface="Times New Roman"/>
                <a:cs typeface="Times New Roman"/>
              </a:rPr>
              <a:t>إلى حِماكَ أحيا معك وتعزيني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3124080"/>
            <a:ext cx="320040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cc"/>
                </a:solidFill>
                <a:latin typeface="Arabic Transparent"/>
              </a:rPr>
              <a:t>يا سيدي كم كان قاسيا موتُ صليبِ العار وقبلَ أن يحمِلَك حمَلته يا با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194000" y="0"/>
            <a:ext cx="4950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04920" y="380880"/>
            <a:ext cx="3581280" cy="60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cc99"/>
                </a:solidFill>
                <a:latin typeface="Times New Roman"/>
                <a:cs typeface="Arabic Transparent"/>
              </a:rPr>
              <a:t>يا ليتَ قلبي يدنو منك فأفوزُ ب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cc99"/>
                </a:solidFill>
                <a:latin typeface="Times New Roman"/>
                <a:cs typeface="Times New Roman"/>
              </a:rPr>
              <a:t>أحيا لأجلك أمينا خاضعاً لك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3124080"/>
            <a:ext cx="320040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cc"/>
                </a:solidFill>
                <a:latin typeface="Arabic Transparent"/>
              </a:rPr>
              <a:t>يا سيدي كم كان قاسيا موتُ صليبِ العار وقبلَ أن يحمِلَك حمَلته يا با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0T09:22:10Z</dcterms:created>
  <dc:creator>SUZANNE.MD</dc:creator>
  <dc:description/>
  <dc:language>en-US</dc:language>
  <cp:lastModifiedBy>HANI SAFI</cp:lastModifiedBy>
  <dcterms:modified xsi:type="dcterms:W3CDTF">2003-03-14T12:19:06Z</dcterms:modified>
  <cp:revision>2</cp:revision>
  <dc:subject/>
  <dc:title>PowerPoint Presentation</dc:title>
</cp:coreProperties>
</file>